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52B55-E88F-41A2-83BA-9EB64A2BE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he play and how you didn’t remember th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elected the poem – figurative language, reading between the lines, making abstract conn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or everyone- specials, special education, differenti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and their past experiences or backgroun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that they are reading and another text, including books poems, scripts songs, or anything that i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and the bigger issues, events, or concerns of society and the world at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 Impor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= Prior knowled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Syn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= Mental Im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= An Inference (conclusion, judgement, belief, opinion based on tex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=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= Confirmed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/C= Prediction Disconfirm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I don’t understand a word or 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= Problem 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this part surprised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= I need to talk to some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Mosaic of Thought, Keene &amp; Zimmerm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A6C-D1BD-45E2-B708-183D28A0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891-CF96-4EAE-A3D8-188E9D2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ABA-7B28-4AFA-8EB9-C87F384A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4DE-A840-48C2-9ED1-2C145563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904-0690-469C-ABFA-F412076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AEA-DC09-4587-B20A-2E405B4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D74-CE2D-4CE9-AAF2-275F57C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2E9-17DE-4D89-9097-690BDF08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EB0-8F4D-4239-ABFC-B13562B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BEB-7DCD-4CB6-8FB7-B6FD702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F92-6E42-48AA-B52B-3DAD40B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776-67BA-4322-9AA3-ACF93A1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937-C178-4165-BAE2-816DD0B3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18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Putting Instructional Strategies into Prac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 Text to 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s of text where T-S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 Text to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 of text where T-W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 Text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 of text where T-T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.  Coding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s of text that can be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rateg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s to a dream defer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dry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raisin in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fester like a sore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r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stink like rotten me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crust and sugar ove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syrupy swe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it just s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heavy l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does it explo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y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-S, T-W. T-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-T)  Martin Luther King’s “I Have a Dream” spe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?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Was this poem by Hughes the inspiration for the play “A Raisin in the Sun” b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-W)  Civil Rights Movement of MLK compared to the Blank Panther Movement and/or Malcolm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September 20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iding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hat is the purpose of utilizing literacy strategies across the curriculum and what is its effect upon student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C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Faculty Meeting Focus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“The Power of Communicati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Developing student communication skills to build student proficiency/mastery throug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ading-Writing in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udent Talk – Discours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xplicit Reading Comprehension Instruction: Before, During and After (B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Focusing on the learner through ongo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aracter Education: Building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September 20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hat is the purpose of utilizing literacy strategies across the curriculum and what is the effect upon student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C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Content Literacy</a:t>
            </a:r>
            <a:br>
              <a:rPr sz="48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“Where content and process connect”</a:t>
            </a: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T – “Always be Think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be Talk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be Tackling Tex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447920"/>
            <a:ext cx="6553080" cy="4800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Average Retention R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752480"/>
            <a:ext cx="6400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5%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10%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20% Audio-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30%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50% Discuss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75% Practice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90% Teach Others/ Us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362320"/>
            <a:ext cx="12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971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952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5562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Disciplinary Litera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onachie, S., Educational Leadership, Vol. 64, No.2, Oct.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evelop deep conceptual knowledge in a discipline only by using the habits of reading, writing, talking and thinking which the discipline values and u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for Learning, University of Pittsburgh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to Build Understanding</a:t>
            </a:r>
            <a:br>
              <a:rPr sz="3200"/>
            </a:b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y: Model thinking alou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6248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Self Connections (T-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Text Connections (T-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World Connections (T-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to Build Understanding</a:t>
            </a:r>
            <a:br>
              <a:rPr sz="3200"/>
            </a:b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y: Model text cod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earning something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onfiction Matters, Harv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8958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1:12:09Z</dcterms:created>
  <dc:creator>North Rockland High School</dc:creator>
  <dc:description/>
  <dc:language>en-US</dc:language>
  <cp:lastModifiedBy>North Rockland High School</cp:lastModifiedBy>
  <dcterms:modified xsi:type="dcterms:W3CDTF">2007-09-20T16:23:33Z</dcterms:modified>
  <cp:revision>12</cp:revision>
  <dc:subject/>
  <dc:title>Make It Happen  Power of Communication 2007-2008 </dc:title>
</cp:coreProperties>
</file>